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9791-ACE5-4EA8-A129-986438A6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3931-E1E9-4113-8FFD-9E85854C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C8BE-749B-40F8-9378-11150AAC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AC8D-8D5A-4F5A-87A5-C416E185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531B-687B-4482-893B-A1C363FF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8FA8-2A52-4D40-8114-DF9027E1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B402-64B6-410D-BA30-3951E4BE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7829-EDB0-4281-92FC-8355393C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2E71-B199-4964-915E-BD939F05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4FC4-E741-4114-9446-C3123F8A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B9D3-219B-48A6-90F5-2FBC8BBE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7037-BD80-4430-B60D-655275D5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B9BF-3555-479E-944B-EB8B21D5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9CA4-BA91-449A-B487-F817DE30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9E77-928E-48A0-8C42-1D816D27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FE43-BEFF-4EE1-9BEA-1DA89FD8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9B04-7045-48A5-8F24-6516A858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E0AF-B4E4-4227-8992-B5B971AC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BC0E-F7E5-4779-8638-E761CF54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6588-9B41-4A95-9B89-166ED19E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67E-5464-4C5C-A0C9-B33D58FE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42D-01C8-4222-AE05-A217A8E0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24D-7271-48A3-9388-29671F15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DB66-2EDD-4B78-BA27-EB289305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lex\Desktop\Send Back to FTP\LO banner art\BIO10NAE_01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2397-004A-49C5-B294-B9C6440955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6CFB-AE8C-4EA1-A3F2-EAD8678C6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he Nature of Ma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Alex\Desktop\Send Back to FTP\LO banner art\BIO10NAE_01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45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he Nature of Ma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Alex\Desktop\Send Back to FTP\LO banner art\BIO10NAE_28_LOTB.jpg"/>
          <p:cNvPicPr/>
          <p:nvPr/>
        </p:nvPicPr>
        <p:blipFill>
          <a:blip r:embed="rId3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Alex\Desktop\Send Back to FTP\LO banner art\BIO10NAE_01_LOTB.jpg"/>
          <p:cNvPicPr/>
          <p:nvPr/>
        </p:nvPicPr>
        <p:blipFill>
          <a:blip r:embed="rId4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4EE0-EC8F-426A-B34A-2E63BE0A98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B902-144C-4E7D-B65C-EF06DBF66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ll Ring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did you study for the first biology tes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much time did you spend study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  <a:ea typeface="Arial"/>
              </a:rPr>
              <a:t>Elements and Isotop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chemic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 pure substance that consists entirely of one type of ato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ments are represented by one or two letter symbo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: C for carbon, H for hydrogen, Na for sod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E:\LESSON OVRVW batch 3\art\BIO10NAE_01_02_02_005_LRIM_03.png"/>
          <p:cNvPicPr/>
          <p:nvPr/>
        </p:nvPicPr>
        <p:blipFill>
          <a:blip r:embed="rId1"/>
          <a:stretch/>
        </p:blipFill>
        <p:spPr>
          <a:xfrm>
            <a:off x="6512040" y="2286000"/>
            <a:ext cx="2631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  <a:ea typeface="Arial"/>
              </a:rPr>
              <a:t>Elements and Isotop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number of protons in the nucleus of an element is called its atomic numb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558ed5"/>
                </a:solidFill>
                <a:latin typeface="Arial"/>
                <a:ea typeface="Arial"/>
              </a:rPr>
              <a:t>Carbon</a:t>
            </a:r>
            <a:r>
              <a:rPr b="0" lang="ja-JP" sz="2800" spc="-1" strike="noStrike">
                <a:solidFill>
                  <a:srgbClr val="558ed5"/>
                </a:solidFill>
                <a:latin typeface="Arial"/>
                <a:ea typeface="Arial"/>
              </a:rPr>
              <a:t>’</a:t>
            </a:r>
            <a:r>
              <a:rPr b="0" lang="en-US" sz="2800" spc="-1" strike="noStrike">
                <a:solidFill>
                  <a:srgbClr val="558ed5"/>
                </a:solidFill>
                <a:latin typeface="Arial"/>
                <a:ea typeface="Arial"/>
              </a:rPr>
              <a:t>s atomic number is 6, meaning that each atom of carbon has six protons and, consequently, six electrons. (Not in no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E:\LESSON OVRVW batch 3\art\BIO10NAE_01_02_02_005_LRIM_01.png"/>
          <p:cNvPicPr/>
          <p:nvPr/>
        </p:nvPicPr>
        <p:blipFill>
          <a:blip r:embed="rId1"/>
          <a:stretch/>
        </p:blipFill>
        <p:spPr>
          <a:xfrm>
            <a:off x="6248520" y="2133720"/>
            <a:ext cx="2560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Isotope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oms of an element may have different numbers of neutr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oms of the same element that differ in the number of neutrons they contain are known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otop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E:\LESSON OVRVW batch 3\art\BIO10NAE_01_02_02_005_LRIM_04.png"/>
          <p:cNvPicPr/>
          <p:nvPr/>
        </p:nvPicPr>
        <p:blipFill>
          <a:blip r:embed="rId1"/>
          <a:stretch/>
        </p:blipFill>
        <p:spPr>
          <a:xfrm>
            <a:off x="1440" y="426708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Isotope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total number of protons + neutrons in the nucleus of an atom is called its mass numb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otopes are identified by their mass numb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. carbon-12, carbon-13, and carbon-1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E:\LESSON OVRVW batch 3\art\BIO10NAE_01_02_02_005_LRIM_04.png"/>
          <p:cNvPicPr/>
          <p:nvPr/>
        </p:nvPicPr>
        <p:blipFill>
          <a:blip r:embed="rId1"/>
          <a:stretch/>
        </p:blipFill>
        <p:spPr>
          <a:xfrm>
            <a:off x="0" y="419112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Isotope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they have the same number of electrons, all isotopes of an element have the same chemical proper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E:\LESSON OVRVW batch 3\art\BIO10NAE_01_02_02_005_LRIM_04.png"/>
          <p:cNvPicPr/>
          <p:nvPr/>
        </p:nvPicPr>
        <p:blipFill>
          <a:blip r:embed="rId1"/>
          <a:stretch/>
        </p:blipFill>
        <p:spPr>
          <a:xfrm>
            <a:off x="1440" y="419112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Radioactive Isotope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 isotopes are radioactive, meaning that their nuclei are unstable and break down at a constant rate over tim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determine the ages of rocks and foss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detect and treat canc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kill bacteria that causes food to spoi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labels or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cer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o follow the movements of sub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  <a:ea typeface="Arial"/>
              </a:rPr>
              <a:t>Chemical Compou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chemic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ou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a substance formed by the chemical combination of two or more elements in definite propor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ientists show the composition of compounds by a kind of shorthand known as a chemical formul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ter: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ble salt: NaC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  <a:ea typeface="Arial"/>
              </a:rPr>
              <a:t>Chemical Compou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hysical and chemical properties of a compound are usually very different from those of the elements from which it is form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  <a:ea typeface="Arial"/>
              </a:rPr>
              <a:t>For example, sodium reacts explosively with cold water. Chlorine is a very reactive, poisonous, greenish gas that was used in battles during World War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  <a:ea typeface="Arial"/>
              </a:rPr>
              <a:t>However, the compound sodium chloride--table salt--is a white solid that dissolves easily in water, is not poisonous, and is essential for the survival of most living th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  <a:ea typeface="Arial"/>
              </a:rPr>
              <a:t>Chemical Bo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s in compounds are held together by various types of chemical bond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nd formation involves the electrons that surround each atomic nucleu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lectrons that are available to form bonds are called valence electr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ain types of chemical bonds are ionic bonds and covalent bo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Ionic Bond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onic bo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formed when one or more electrons are transferred from one atom to anoth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atom that loses electrons becomes positively charged.   An atom that gains electrons has a negative charge. These positively and negatively charged atoms are known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E:\LESSON OVRVW batch 3\art\BIO10NAE_01_02_02_005_LRIM_06.png"/>
          <p:cNvPicPr/>
          <p:nvPr/>
        </p:nvPicPr>
        <p:blipFill>
          <a:blip r:embed="rId1"/>
          <a:stretch/>
        </p:blipFill>
        <p:spPr>
          <a:xfrm>
            <a:off x="0" y="4419720"/>
            <a:ext cx="9142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ll Ring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are two uses for radioactive isotop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___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E:\LESSON OVRVW batch 3\art\BIO10NAE_01_02_02_005_LRIM_06.png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Ionic Bond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the ions are oppositely charged they are strongly attracted to each other, forming an ionic bo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Ionic Bond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onic bonds form between sodium and chlorine to form NaCl, table sal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E:\LESSON OVRVW batch 3\art\BIO10NAE_01_02_02_005_LRIM_06.png"/>
          <p:cNvPicPr/>
          <p:nvPr/>
        </p:nvPicPr>
        <p:blipFill>
          <a:blip r:embed="rId1"/>
          <a:stretch/>
        </p:blipFill>
        <p:spPr>
          <a:xfrm>
            <a:off x="0" y="335268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E:\LESSON OVRVW batch 3\art\BIO10NAE_01_02_02_005_LRIM_07.png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Ionic Bond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sodium atom easily loses its one valence electron and becomes a sodium ion (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E:\LESSON OVRVW batch 3\art\BIO10NAE_01_02_02_005_LRIM_08.png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Ionic Bond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chlorine atom easily gains an electron (from sodium) and becomes a chloride ion (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Covalent Bond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times electrons are shared by atoms instead of being transferr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ving electrons travel about the nuclei of both atoms, forming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valent bon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re 2 electrons = Single covalent bo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re 4 electrons = Double covalent bo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re 6 electrons = Triple covalent bon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Covalent Bond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tructure that results when atoms are joined together by covalent bonds is calle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the smallest unit of most compound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  <a:ea typeface="Arial"/>
              </a:rPr>
              <a:t>This diagram of a water molecule shows that each hydrogen atom is joined to water</a:t>
            </a:r>
            <a:r>
              <a:rPr b="0" lang="ja-JP" sz="2400" spc="-1" strike="noStrike">
                <a:solidFill>
                  <a:srgbClr val="558ed5"/>
                </a:solidFill>
                <a:latin typeface="Arial"/>
                <a:ea typeface="Arial"/>
              </a:rPr>
              <a:t>’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  <a:ea typeface="Arial"/>
              </a:rPr>
              <a:t>s lone oxygen atom by a single covalent bon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  <a:ea typeface="Arial"/>
              </a:rPr>
              <a:t>Each hydrogen atom shares two electrons with the oxygen at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E:\LESSON OVRVW batch 3\art\BIO10NAE_01_02_02_005_LRIM_09.png"/>
          <p:cNvPicPr/>
          <p:nvPr/>
        </p:nvPicPr>
        <p:blipFill>
          <a:blip r:embed="rId1"/>
          <a:stretch/>
        </p:blipFill>
        <p:spPr>
          <a:xfrm>
            <a:off x="6381720" y="1981080"/>
            <a:ext cx="276228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Van der Waals Force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oms of different elements do not all have the same ability to attract electr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 atoms have a stronger attraction for electrons than do other ato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molecules are close together, a slight attraction can develop between the oppositely charged regions of nearby molecu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Van der Waals Force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molecules are close together, a slight attraction can develop between the oppositely charged regions of nearby molecul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C:\Users\Alex\Desktop\Send Back to FTP\LO stills - splash screens\BIO10NAE_24_CTBG.jpg"/>
          <p:cNvPicPr/>
          <p:nvPr/>
        </p:nvPicPr>
        <p:blipFill>
          <a:blip r:embed="rId1"/>
          <a:stretch/>
        </p:blipFill>
        <p:spPr>
          <a:xfrm>
            <a:off x="228600" y="198360"/>
            <a:ext cx="4954680" cy="6354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81120" y="2133360"/>
            <a:ext cx="39625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Arial"/>
                <a:ea typeface="Arial"/>
              </a:rPr>
              <a:t>Lesson 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28840" y="3219480"/>
            <a:ext cx="426708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1 The Nature of Ma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aily 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the three subatomic particles found in a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lain how compounds are different from the elements they are made up o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cribe the two main types of chemical bo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  <a:ea typeface="Arial"/>
              </a:rPr>
              <a:t>Ato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tudy of chemistry begins with the basic unit of matter,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o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oncept of the atom has been around for nearly 2500 yea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om comes from the Greek wor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om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which mean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able to be cut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Ato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01992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oms are incredibly small. Placed side by side, 100 million atoms would make a row only about 1 cm lo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three subatomic particles that make up atoms are protons, neutrons, and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E:\LESSON OVRVW batch 3\art\BIO10NAE_01_02_02_005_LRIM_01.png"/>
          <p:cNvPicPr/>
          <p:nvPr/>
        </p:nvPicPr>
        <p:blipFill>
          <a:blip r:embed="rId1"/>
          <a:stretch/>
        </p:blipFill>
        <p:spPr>
          <a:xfrm>
            <a:off x="6248520" y="2133720"/>
            <a:ext cx="2560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Protons and Neutron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095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ons and neutrons have about the same mass. (1 am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ons are positively charged particles (+) and neutrons carry no charge at al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ong forces bind protons and neutrons together to form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cle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 the center of the at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E:\LESSON OVRVW batch 3\art\BIO10NAE_01_02_02_005_LRIM_01.png"/>
          <p:cNvPicPr/>
          <p:nvPr/>
        </p:nvPicPr>
        <p:blipFill>
          <a:blip r:embed="rId1"/>
          <a:stretch/>
        </p:blipFill>
        <p:spPr>
          <a:xfrm>
            <a:off x="6248520" y="2133720"/>
            <a:ext cx="2560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Electron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62485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ctr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a negatively charged particle (–) with only 1/1840 the mass of a prot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ctrons are in constant motion in the space surrounding the nucleu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E:\LESSON OVRVW batch 3\art\BIO10NAE_01_02_02_005_LRIM_01.png"/>
          <p:cNvPicPr/>
          <p:nvPr/>
        </p:nvPicPr>
        <p:blipFill>
          <a:blip r:embed="rId1"/>
          <a:stretch/>
        </p:blipFill>
        <p:spPr>
          <a:xfrm>
            <a:off x="6248520" y="2133720"/>
            <a:ext cx="2560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Electron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60962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cause atoms have equal numbers of electrons and protons, their positive and negative charges balance out, and atoms are electrically neutr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E:\LESSON OVRVW batch 3\art\BIO10NAE_01_02_02_005_LRIM_01.png"/>
          <p:cNvPicPr/>
          <p:nvPr/>
        </p:nvPicPr>
        <p:blipFill>
          <a:blip r:embed="rId1"/>
          <a:stretch/>
        </p:blipFill>
        <p:spPr>
          <a:xfrm>
            <a:off x="6248520" y="2133720"/>
            <a:ext cx="2560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7:59:44Z</dcterms:created>
  <dc:creator>Alex</dc:creator>
  <dc:description/>
  <dc:language>en-US</dc:language>
  <cp:lastModifiedBy>dzahm</cp:lastModifiedBy>
  <dcterms:modified xsi:type="dcterms:W3CDTF">2013-09-20T18:21:08Z</dcterms:modified>
  <cp:revision>96</cp:revision>
  <dc:subject/>
  <dc:title>Slide 1</dc:title>
</cp:coreProperties>
</file>